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E88A-D2D5-472A-9EB5-721869BD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B9C-2EA2-40B8-AC42-2DFFB9B7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7A5B-7A07-4191-A552-09A609B1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1CEC-52E8-4631-9A67-711E48D1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E8CB-6BAA-41B5-858E-1938B240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9A37-53A8-4FDA-9E21-441885B0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117-B280-46CD-8BFA-15FF9AAA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1F83-8C51-4EDB-A39A-4882A0CE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8C8-AFA4-497B-B606-FAC983E0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E394-31DD-4E59-B1DB-0C195603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482F-EB27-4175-B0F7-2DB610F5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294-3B22-4769-9CDE-0AEF2908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9122-2BB7-474B-9519-9A7B9E554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Wall.jpg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a and Ja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pel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on Fl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n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e of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itoc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g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 b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in Shi Huang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ng Dynas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k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o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a Dynas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n/Y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u the G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38280" y="1142640"/>
            <a:ext cx="6477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of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in China; used in tra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’s greatest teacher/philosop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ps led by Zhuang He; explored Indian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-servant in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of silt in the Yellow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lar class of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rs are appointed by the g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 based on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ders from the northern part of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I-Ching; told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peror; began building the Great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y where much of Chinese culture was 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 in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e route from Venice to Shangh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 that seeks balance; symbol is Yin-Y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mythical dynasty of Ancient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 to show balance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eror that controlled the floods of Yellow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5:44:02Z</dcterms:created>
  <dc:creator>chris.williams</dc:creator>
  <dc:description/>
  <dc:language>en-US</dc:language>
  <cp:lastModifiedBy>chris.williams</cp:lastModifiedBy>
  <dcterms:modified xsi:type="dcterms:W3CDTF">2010-10-28T16:10:50Z</dcterms:modified>
  <cp:revision>2</cp:revision>
  <dc:subject/>
  <dc:title>China and Japan</dc:title>
</cp:coreProperties>
</file>